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CB724D-1424-4874-9C52-E2FB41F5BD9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mandalatv.net/itp/drivebys/css/" TargetMode="External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B7693F-6FA6-46F2-820B-875040E6AAB9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Times New Roman"/>
                <a:ea typeface="MS Gothic"/>
                <a:hlinkClick r:id="rId1"/>
              </a:rPr>
              <a:t>http://www.mandalatv.net/itp/drivebys/css/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Wikipedia (Box Mod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F6CA8B-9739-438D-ACAE-9D49B935C486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Imagem retirada de: http://www.flickr.com/photos/24413864@N05/4044264068/sizes/l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823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 e problema com container pai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righ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absolu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243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o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2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ixe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8CD1A-7A6A-4A66-AF83-CE2703A5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CB3B5-42B5-423B-B3D5-8904ECE90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0F257-114F-4054-9CD8-CD2086F04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67857-84EC-477B-AE65-DF27E0C15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F7CB-E10A-4060-9733-AE7A8DED7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B3B87-6CA0-47BD-B24A-A028C5C2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8AD77-5269-4810-8A08-3992665E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C5C63-11A5-475B-99EE-CB9DD608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0D082-85C0-43B6-ADBB-36FA06B9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C4336-FFF0-4FA4-91F5-9A2BC05D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EBD7F-1606-4CDA-AF26-358BDC83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24867-39E5-4764-8518-3CF549469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A87B2-25DB-4ACC-98C2-ACA26E9D02D1}" type="slidenum">
              <a:rPr b="0" lang="pt-BR" sz="1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0/27/posicionamento-de-elementos-em-css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ableless.com.br/propriedade-position-do-css" TargetMode="External"/><Relationship Id="rId2" Type="http://schemas.openxmlformats.org/officeDocument/2006/relationships/hyperlink" Target="http://www.pt-br.html.net/tutorials/css/lesson13.asp" TargetMode="External"/><Relationship Id="rId3" Type="http://schemas.openxmlformats.org/officeDocument/2006/relationships/hyperlink" Target="http://www.pt-br.html.net/tutorials/css/lesson14.asp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de Elemento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531AC2-57CD-4752-9A72-499BEDD3F44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Exemplos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MS Gothic"/>
              </a:rPr>
              <a:t>Exemplos em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480" y="44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Lembre-se do Box model!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43080" y="928800"/>
            <a:ext cx="5888160" cy="5841720"/>
            <a:chOff x="2143080" y="928800"/>
            <a:chExt cx="5888160" cy="5841720"/>
          </a:xfrm>
        </p:grpSpPr>
        <p:graphicFrame>
          <p:nvGraphicFramePr>
            <p:cNvPr id="89" name=""/>
            <p:cNvGraphicFramePr/>
            <p:nvPr/>
          </p:nvGraphicFramePr>
          <p:xfrm>
            <a:off x="2143080" y="928800"/>
            <a:ext cx="5888160" cy="58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43080" y="928800"/>
                      <a:ext cx="5888160" cy="58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2143080" y="928800"/>
              <a:ext cx="5888160" cy="58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Box model para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elementos em bloco</a:t>
            </a:r>
            <a:br>
              <a:rPr sz="3200"/>
            </a:b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IE (6 e 7) x Resto do Mundo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40000" y="1484280"/>
            <a:ext cx="4324320" cy="5372280"/>
            <a:chOff x="2340000" y="1484280"/>
            <a:chExt cx="4324320" cy="53722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4324320" cy="537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340000" y="1484280"/>
              <a:ext cx="4324320" cy="53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Visualizar o Box Model com Firebug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Instalar o Firebug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http://www.getfirebug.com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ecla F12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03D07-15F3-47A2-9A0D-8747B4EC46F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71720" y="5072040"/>
            <a:ext cx="703872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0"/>
            <a:ext cx="8085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700360"/>
            <a:ext cx="50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Determina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 de um elemento em relação ao fluxo da página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BBBFE-E82D-4955-9FA0-03E10F31AE3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00720" y="179280"/>
            <a:ext cx="346536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ne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A5BA6A-964C-4DB4-B05F-19EA8C26FB7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2747880"/>
            <a:ext cx="4140360" cy="2652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19640" y="2700360"/>
            <a:ext cx="4562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0360" y="1079640"/>
            <a:ext cx="82803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B8FC68-8D43-4427-870F-BF3D6764C83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3060720"/>
            <a:ext cx="46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4230720" cy="17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200" y="1619280"/>
            <a:ext cx="86328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179280"/>
            <a:ext cx="8805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blema: o contâiner pai se adapta aos elementos colocados depois do elemento com o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1E5B4-ABA7-456C-ADA7-4E95192F659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3240000"/>
            <a:ext cx="88506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hecemos, no semestre passado diversos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seletores e propriedade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CS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mbém trabalhamos com propriedade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mens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(box model)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sso objetivo hoje será iniciar o trabalh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clear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trola o comportamento de um elemento em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 relação ao estado de 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s element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 possívei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both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57021-3394-4783-9699-6D1049F19C4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lef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AE2F90-7F9F-4061-B5D8-99CF7F8D99A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760" y="4114800"/>
            <a:ext cx="316224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19640" y="4319640"/>
            <a:ext cx="45910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9840" y="900000"/>
            <a:ext cx="84801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3102F-C527-4852-B1D5-8E6C6036BC0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4162320"/>
            <a:ext cx="3029040" cy="2695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087800" y="4319640"/>
            <a:ext cx="455292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7200" y="873000"/>
            <a:ext cx="863280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both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2F5B3-D11D-4AE9-8EEC-FDC47C75909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9840" y="4278240"/>
            <a:ext cx="2990880" cy="2381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40360" y="4319640"/>
            <a:ext cx="46195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8120" y="1225440"/>
            <a:ext cx="86518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olvendo o problema da adaptação do contâiner pai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	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ar um espaçador (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pac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 com clea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9C9B6-3F82-4A10-855F-08FCCB22FA4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0680" y="2700360"/>
            <a:ext cx="3919680" cy="414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91120" y="2519280"/>
            <a:ext cx="48085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864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Tipos de posicionamento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0360" y="1600200"/>
            <a:ext cx="85057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Estátic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tatic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Relativ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tiv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Absolut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bsolut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Fix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ixed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BDFC4-033F-48AE-87D0-A2F26A1AD9C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é err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itura obrigatória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estátic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static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drão, como os elementos são colocados po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adr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6DA420-99F7-48CD-BC88-DBB1FD05594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60360" y="2879640"/>
            <a:ext cx="684072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relativ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relativ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ç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ao posicionamento estátic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5808C5-6363-47F4-AEE1-E76CE6AFF9F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19640" y="3959280"/>
            <a:ext cx="4680000" cy="270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8360" y="4078440"/>
            <a:ext cx="358164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absolut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absolut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ao canto superior esquerdo ou canto superior direito do elemento pai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5D68A-5718-49DD-8E1A-2018D883E56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81000"/>
            <a:ext cx="4319640" cy="1898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16000" y="2160720"/>
            <a:ext cx="572436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fix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fixed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à janela do navegado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8A12E-7A38-4199-B314-AF2157B1892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1AA33-2E7C-4F3A-8533-43408D8F296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óximas aulas de CS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214720"/>
            <a:ext cx="855360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CSS Posicionamento: layouts;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Menus, Botões e Forms.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23ACF5-B734-4174-A8F0-A9C8DCAD88C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ropriedade position do CS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tableless.com.br/propriedade-position-do-cs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Flutu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http://www.pt-br.html.net/tutorials/css/lesson13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http://www.pt-br.html.net/tutorials/css/lesson14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SS – Guia de Bols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41AA9-C7A8-4038-8940-B3D99945463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54CB1-C2B8-4693-8E17-B57723CE1B9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DFA1C-3B52-4D52-85A6-FA3E11653ED8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tipo de posicionamento de um element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largura de um elemento, obrigatório nos elementos com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06-16T19:09:20Z</dcterms:modified>
  <cp:revision>852</cp:revision>
  <dc:subject/>
  <dc:title>Aula 01 - Curso Técnico</dc:title>
</cp:coreProperties>
</file>